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75A-824B-4557-9FE5-2C843499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34D-566C-430F-A12C-EC1451E9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869D-001B-4A58-BDDB-A1A03717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E18-CA5E-4169-90E6-1D03108D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A33-C96A-4D8C-AE4C-2BB30AC2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813-4685-4BC7-AF94-2BE6722D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E77-799F-44C7-8B7B-DC07290E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C32-7EFB-42CD-BF6E-F32B8C6C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933-C50A-4A6F-BB65-45EDBDF9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5600-96C6-48C5-9357-3114E84C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96D-13A0-4728-869A-1C38305A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7B2B-E49E-4172-9D53-61862458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1D6F-FE1E-4E62-95CB-DA7370214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9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14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20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2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30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5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0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15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21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26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31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6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1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16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22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27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32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7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12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1.png"/><Relationship Id="rId63" Type="http://schemas.openxmlformats.org/officeDocument/2006/relationships/slide" Target="slide23.xml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33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slide" Target="slide8.xml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13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slide" Target="slide19.xml"/><Relationship Id="rId78" Type="http://schemas.openxmlformats.org/officeDocument/2006/relationships/image" Target="../media/image2.png"/><Relationship Id="rId79" Type="http://schemas.openxmlformats.org/officeDocument/2006/relationships/image" Target="../media/image1.png"/><Relationship Id="rId80" Type="http://schemas.openxmlformats.org/officeDocument/2006/relationships/slide" Target="slide24.xml"/><Relationship Id="rId81" Type="http://schemas.openxmlformats.org/officeDocument/2006/relationships/image" Target="../media/image2.png"/><Relationship Id="rId82" Type="http://schemas.openxmlformats.org/officeDocument/2006/relationships/image" Target="../media/image1.png"/><Relationship Id="rId83" Type="http://schemas.openxmlformats.org/officeDocument/2006/relationships/slide" Target="slide29.xml"/><Relationship Id="rId84" Type="http://schemas.openxmlformats.org/officeDocument/2006/relationships/image" Target="../media/image2.png"/><Relationship Id="rId85" Type="http://schemas.openxmlformats.org/officeDocument/2006/relationships/image" Target="../media/image1.png"/><Relationship Id="rId86" Type="http://schemas.openxmlformats.org/officeDocument/2006/relationships/slide" Target="slide34.xml"/><Relationship Id="rId87" Type="http://schemas.openxmlformats.org/officeDocument/2006/relationships/image" Target="../media/image2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3.jpeg"/><Relationship Id="rId95" Type="http://schemas.openxmlformats.org/officeDocument/2006/relationships/image" Target="../media/image4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5.png"/><Relationship Id="rId98" Type="http://schemas.openxmlformats.org/officeDocument/2006/relationships/image" Target="../media/image6.png"/><Relationship Id="rId99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looked at variations in Finches &amp; Marine Iguanas on the Galapagos islan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vironmental factors control who lives and who dies, in other words, 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heory of evolution states that violent events cause rapid periods of evolution, peri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believe that” this theory states that the first living things were unicellular and anaerobi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group of organisms that can interbre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biome contains  “Mainely” conifers, Moose, and black be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cycle nutrients from dead organisms back into “de” environ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ype of symbiosis involves two organisms benefi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climax community completes this proc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is the “father” of genetic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21337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’t be “blue” these hereditary factors control what is passed 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states that some traits will hide or mask the weaker on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ype of inheritance involves offspring having a different phenotype and genotype when compared to the par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echniques is now used to produce antibiotics and hormones such as insulin for human u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get this you multiply the ocular by the objective lens you are us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normal condition doesn’t change in an experiment but it lets you see how much your experiment do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group contains the vari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order for experiments to be valid they must be 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unit of measure will come in handy under the scope, it equals 0.1 m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creenj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lue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3" name="screenj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lue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6" name="screenj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lue" descr="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screenj" descr="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lue" descr="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screenj" descr="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lue" descr="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screenj" descr=""/>
          <p:cNvPicPr/>
          <p:nvPr/>
        </p:nvPicPr>
        <p:blipFill>
          <a:blip r:embed="rId15"/>
          <a:stretch/>
        </p:blipFill>
        <p:spPr>
          <a:xfrm>
            <a:off x="7819920" y="1981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lue" descr="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screenj" descr="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lue" descr="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screenj" descr="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lue" descr="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screenj" descr="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lue" descr="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screenj" descr="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lue" descr="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screenj" descr="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lue" descr="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screenj" descr="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blue" descr="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screenj" descr="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blue" descr="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89" name="screenj" descr="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lue" descr="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2" name="screenj" descr="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lue" descr="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screenj" descr="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lue" descr="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screenj" descr="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lue" descr="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screenj" descr="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lue" descr="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screenj" descr="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lue" descr="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7" name="screenj" descr="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lue" descr="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0" name="screenj" descr="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lue" descr=""/>
          <p:cNvPicPr/>
          <p:nvPr/>
        </p:nvPicPr>
        <p:blipFill>
          <a:blip r:embed="rId61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screenj" descr=""/>
          <p:cNvPicPr/>
          <p:nvPr/>
        </p:nvPicPr>
        <p:blipFill>
          <a:blip r:embed="rId62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3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lue" descr=""/>
          <p:cNvPicPr/>
          <p:nvPr/>
        </p:nvPicPr>
        <p:blipFill>
          <a:blip r:embed="rId64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screenj" descr=""/>
          <p:cNvPicPr/>
          <p:nvPr/>
        </p:nvPicPr>
        <p:blipFill>
          <a:blip r:embed="rId65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lue" descr=""/>
          <p:cNvPicPr/>
          <p:nvPr/>
        </p:nvPicPr>
        <p:blipFill>
          <a:blip r:embed="rId66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screenj" descr=""/>
          <p:cNvPicPr/>
          <p:nvPr/>
        </p:nvPicPr>
        <p:blipFill>
          <a:blip r:embed="rId67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lue" descr=""/>
          <p:cNvPicPr/>
          <p:nvPr/>
        </p:nvPicPr>
        <p:blipFill>
          <a:blip r:embed="rId6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screenj" descr=""/>
          <p:cNvPicPr/>
          <p:nvPr/>
        </p:nvPicPr>
        <p:blipFill>
          <a:blip r:embed="rId7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lue" descr=""/>
          <p:cNvPicPr/>
          <p:nvPr/>
        </p:nvPicPr>
        <p:blipFill>
          <a:blip r:embed="rId7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screenj" descr=""/>
          <p:cNvPicPr/>
          <p:nvPr/>
        </p:nvPicPr>
        <p:blipFill>
          <a:blip r:embed="rId7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blue" descr=""/>
          <p:cNvPicPr/>
          <p:nvPr/>
        </p:nvPicPr>
        <p:blipFill>
          <a:blip r:embed="rId7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screenj" descr=""/>
          <p:cNvPicPr/>
          <p:nvPr/>
        </p:nvPicPr>
        <p:blipFill>
          <a:blip r:embed="rId7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7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blue" descr=""/>
          <p:cNvPicPr/>
          <p:nvPr/>
        </p:nvPicPr>
        <p:blipFill>
          <a:blip r:embed="rId78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screenj" descr=""/>
          <p:cNvPicPr/>
          <p:nvPr/>
        </p:nvPicPr>
        <p:blipFill>
          <a:blip r:embed="rId79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blue" descr=""/>
          <p:cNvPicPr/>
          <p:nvPr/>
        </p:nvPicPr>
        <p:blipFill>
          <a:blip r:embed="rId81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screenj" descr=""/>
          <p:cNvPicPr/>
          <p:nvPr/>
        </p:nvPicPr>
        <p:blipFill>
          <a:blip r:embed="rId82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blue" descr=""/>
          <p:cNvPicPr/>
          <p:nvPr/>
        </p:nvPicPr>
        <p:blipFill>
          <a:blip r:embed="rId84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screenj" descr=""/>
          <p:cNvPicPr/>
          <p:nvPr/>
        </p:nvPicPr>
        <p:blipFill>
          <a:blip r:embed="rId85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lue" descr=""/>
          <p:cNvPicPr/>
          <p:nvPr/>
        </p:nvPicPr>
        <p:blipFill>
          <a:blip r:embed="rId87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screenj" descr=""/>
          <p:cNvPicPr/>
          <p:nvPr/>
        </p:nvPicPr>
        <p:blipFill>
          <a:blip r:embed="rId88"/>
          <a:stretch/>
        </p:blipFill>
        <p:spPr>
          <a:xfrm>
            <a:off x="0" y="99072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1" name="screenj" descr=""/>
          <p:cNvPicPr/>
          <p:nvPr/>
        </p:nvPicPr>
        <p:blipFill>
          <a:blip r:embed="rId89"/>
          <a:stretch/>
        </p:blipFill>
        <p:spPr>
          <a:xfrm>
            <a:off x="16002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2" name="screenj" descr=""/>
          <p:cNvPicPr/>
          <p:nvPr/>
        </p:nvPicPr>
        <p:blipFill>
          <a:blip r:embed="rId90"/>
          <a:stretch/>
        </p:blipFill>
        <p:spPr>
          <a:xfrm>
            <a:off x="32004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screenj" descr=""/>
          <p:cNvPicPr/>
          <p:nvPr/>
        </p:nvPicPr>
        <p:blipFill>
          <a:blip r:embed="rId91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screenj" descr=""/>
          <p:cNvPicPr/>
          <p:nvPr/>
        </p:nvPicPr>
        <p:blipFill>
          <a:blip r:embed="rId92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screenj" descr=""/>
          <p:cNvPicPr/>
          <p:nvPr/>
        </p:nvPicPr>
        <p:blipFill>
          <a:blip r:embed="rId93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3200400" y="12193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c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06668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nherit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1219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In the 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11430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y body &amp; 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06668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 fine breed ind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jeplogo2" descr=""/>
          <p:cNvPicPr/>
          <p:nvPr/>
        </p:nvPicPr>
        <p:blipFill>
          <a:blip r:embed="rId94"/>
          <a:stretch/>
        </p:blipFill>
        <p:spPr>
          <a:xfrm>
            <a:off x="1370160" y="0"/>
            <a:ext cx="6402240" cy="914400"/>
          </a:xfrm>
          <a:prstGeom prst="rect">
            <a:avLst/>
          </a:prstGeom>
          <a:ln w="0">
            <a:noFill/>
          </a:ln>
        </p:spPr>
      </p:pic>
      <p:pic>
        <p:nvPicPr>
          <p:cNvPr id="152" name="finaljep" descr=""/>
          <p:cNvPicPr/>
          <p:nvPr/>
        </p:nvPicPr>
        <p:blipFill>
          <a:blip r:embed="rId95"/>
          <a:stretch/>
        </p:blipFill>
        <p:spPr>
          <a:xfrm>
            <a:off x="8153280" y="228600"/>
            <a:ext cx="962280" cy="577800"/>
          </a:xfrm>
          <a:prstGeom prst="rect">
            <a:avLst/>
          </a:prstGeom>
          <a:ln w="0">
            <a:noFill/>
          </a:ln>
        </p:spPr>
      </p:pic>
      <p:pic>
        <p:nvPicPr>
          <p:cNvPr id="153" name="applause" descr="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905120" y="114300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Evolve or d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8"/>
          <a:stretch/>
        </p:blipFill>
        <p:spPr>
          <a:xfrm>
            <a:off x="12952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057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is the basic unit of your bo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22860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se structures fight invaders (pathogens) like bacteria and virus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26668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ctually contains a weakened less harmful version of a dise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contains folds that help you to absorb most of your digested foo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71600" y="2514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rtilization takes place in the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1981080"/>
            <a:ext cx="716292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enetic Enginee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295596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how an animal is clon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95596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ransferring the DNA from the nucleus of one cell into an egg of that anim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t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is type of reproduction two cells from 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iosis (Reduction divis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en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metogen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an-Baptiste Lamar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19520" y="26668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arles Darw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egetative Propa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tural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nctuated Equilibr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terotroph Hypo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word, this divides the chromosome number exactly in hal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i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compo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utua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21337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cological Succ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gor Men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w of Domi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19810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rmediate inheri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 splic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tal magn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lizard can “regrow” a stubby tail using this proc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erim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pea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crome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te Blood 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cc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mall intest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llopian Tubules (oviduct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 a “game” to be taken lightly, this process produces the sex cel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oning of plants involves this two word proc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5560" y="2758320"/>
            <a:ext cx="82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h!  His theory of evolution was proven wr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JOE SAC</dc:creator>
  <dc:description/>
  <dc:language>en-US</dc:language>
  <cp:lastModifiedBy>Joesac</cp:lastModifiedBy>
  <dcterms:modified xsi:type="dcterms:W3CDTF">2006-06-17T01:52:12Z</dcterms:modified>
  <cp:revision>71</cp:revision>
  <dc:subject/>
  <dc:title>June 17 Jeopardy</dc:title>
</cp:coreProperties>
</file>